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86275-A7F1-41BE-B45E-15DF22D212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72D36-242E-40B5-863A-7D3A66BE4B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4A1B3-77B8-4943-9790-6516081F02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4D399-5641-458A-8390-4B1028CD52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21011-C2BF-4FC0-A93A-39BFAD3163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6D741-E866-4E80-A38A-CED321EE96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01944-068F-4A59-A4F8-4E8C6AE45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8ED63-CBCF-4525-AC6C-153EFCF863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3F4AF-1D26-4B65-BA35-3545AAC06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B65DF-A92C-4B05-A980-D1BC3D46AE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B849A-F603-4651-BF30-D585D8CFC0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AF9E0-FD7D-4C74-BB11-BE57CD126C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BFD2-3ADD-417F-A55A-948D173443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bs.org/wgbh/misunderstoodminds/experiences/mathexp2a.html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2A9A-AE1C-4F05-8E40-B31E1B398C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ample TIPS Less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2952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one of the following less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9 Applied - Propor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10 Applied - Trigon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11 Workplace -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11 Functions and Applications - 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12 Advanced Functions - Rational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623A-F80A-4771-AFA5-BAF312CFE87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inah Zike’s Teaching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athematics with Foldab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B243-0A5E-4221-9002-F334929B36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533520" y="2017800"/>
            <a:ext cx="815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ldables result in student-made study guides that are compiled as students listen for main ideas, read for main ideas, and work their way through new concepts and procedur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1"/>
          <a:stretch/>
        </p:blipFill>
        <p:spPr>
          <a:xfrm>
            <a:off x="5715000" y="41148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9EA8-D99E-47F5-A23B-CDF7CF822F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304920" y="1600200"/>
            <a:ext cx="8458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 template from the samples of “foldables” g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“foldable” related to your TIPS lesson to support students with learning disabi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140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reate a “Foldable”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5688-D8D4-4548-8797-28E9B65DAA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457200" y="76320"/>
            <a:ext cx="8156520" cy="53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10CC-4BA7-49C9-9BFB-3CD74CAF91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144440" y="304920"/>
            <a:ext cx="693288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A0E3-786D-4D9F-B754-FFBCD72CB5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5187960" cy="4038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5638680" y="914400"/>
            <a:ext cx="3017880" cy="43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0AF7-C91C-4EBE-B343-4251371FD9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543800" cy="518148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6553080" y="76320"/>
            <a:ext cx="152424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-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hree-Tab Boo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1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C97A-3D42-49BD-8689-FB11AA6DC0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457200" y="609480"/>
            <a:ext cx="518148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old a sheet of paper like a hot do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ith the paper horizontal, and the fold of the hot dog up, fold the right side toward the center, trying to cover one half of the pap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old the left side over the right side to make a book with three fol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pen the folded book. Cut up the two valleys on the top side only. This will form three tab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Use this book for data occurring in thre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6116760" y="533520"/>
            <a:ext cx="1655640" cy="761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7162920" y="1371600"/>
            <a:ext cx="1447560" cy="1147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3"/>
          <a:stretch/>
        </p:blipFill>
        <p:spPr>
          <a:xfrm>
            <a:off x="6324480" y="2209680"/>
            <a:ext cx="838440" cy="1303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4"/>
          <a:stretch/>
        </p:blipFill>
        <p:spPr>
          <a:xfrm>
            <a:off x="6515280" y="4038480"/>
            <a:ext cx="1866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0A3E-386B-4FB3-AF46-450628C067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3348000" cy="1371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4800600" y="457200"/>
            <a:ext cx="3699000" cy="1600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3"/>
          <a:stretch/>
        </p:blipFill>
        <p:spPr>
          <a:xfrm>
            <a:off x="2133720" y="4495680"/>
            <a:ext cx="4114800" cy="1768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4"/>
          <a:stretch/>
        </p:blipFill>
        <p:spPr>
          <a:xfrm>
            <a:off x="6553080" y="2286000"/>
            <a:ext cx="1828800" cy="3448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5"/>
          <a:stretch/>
        </p:blipFill>
        <p:spPr>
          <a:xfrm>
            <a:off x="990720" y="2362320"/>
            <a:ext cx="424656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6385-457D-47C2-BAA4-77E49E00B3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141120" y="380880"/>
            <a:ext cx="8622000" cy="3962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5759280" y="3219480"/>
            <a:ext cx="2851200" cy="12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ore Simula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E57A-BF37-453D-ADCE-FAFB6EAA44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B978-C74D-440D-80CB-911328D3FC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533520" y="1295280"/>
            <a:ext cx="7924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scalcul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term referring to a wide range of life-long learning disabilities involving math. There is no one single form of this math disability, but usually it incorporates one or more of following areas of difficul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Difficu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Spatial Difficu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Difficu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Memory Difficu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6395-2253-4AE7-B3C6-9DAE136D20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5867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09A0-6686-455E-A213-424D603047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752796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0B50-9814-4CD7-AFBE-9215E9BE26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3581280" cy="2538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4800600" y="762120"/>
            <a:ext cx="3930480" cy="1981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3"/>
          <a:stretch/>
        </p:blipFill>
        <p:spPr>
          <a:xfrm>
            <a:off x="1189080" y="3429000"/>
            <a:ext cx="4373640" cy="1752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4"/>
          <a:stretch/>
        </p:blipFill>
        <p:spPr>
          <a:xfrm>
            <a:off x="6095880" y="2895480"/>
            <a:ext cx="160020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9BE0-392C-4A05-B45D-721321C3CB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4622760" y="2819520"/>
            <a:ext cx="4368960" cy="3276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2"/>
          <a:srcRect l="0" t="22874" r="3443" b="21118"/>
          <a:stretch/>
        </p:blipFill>
        <p:spPr>
          <a:xfrm>
            <a:off x="533520" y="380880"/>
            <a:ext cx="4728960" cy="2057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3"/>
          <a:stretch/>
        </p:blipFill>
        <p:spPr>
          <a:xfrm>
            <a:off x="380880" y="2895480"/>
            <a:ext cx="4017960" cy="17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1D3D-B18F-4261-8CFE-D3E5040416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"/>
          <p:cNvPicPr/>
          <p:nvPr/>
        </p:nvPicPr>
        <p:blipFill>
          <a:blip r:embed="rId1"/>
          <a:stretch/>
        </p:blipFill>
        <p:spPr>
          <a:xfrm>
            <a:off x="274680" y="314280"/>
            <a:ext cx="7954920" cy="5019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5570640" y="5562720"/>
            <a:ext cx="243036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284B-FB93-4439-A020-5C06A8354B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"/>
          <p:cNvPicPr/>
          <p:nvPr/>
        </p:nvPicPr>
        <p:blipFill>
          <a:blip r:embed="rId1"/>
          <a:stretch/>
        </p:blipFill>
        <p:spPr>
          <a:xfrm>
            <a:off x="560520" y="-495360"/>
            <a:ext cx="8126280" cy="59054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5105520" y="-457200"/>
            <a:ext cx="29718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8E19-22B6-4415-8631-A2DB27265C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2" descr=""/>
          <p:cNvPicPr/>
          <p:nvPr/>
        </p:nvPicPr>
        <p:blipFill>
          <a:blip r:embed="rId1"/>
          <a:stretch/>
        </p:blipFill>
        <p:spPr>
          <a:xfrm>
            <a:off x="76320" y="304920"/>
            <a:ext cx="8727840" cy="4114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6985080" y="4495680"/>
            <a:ext cx="8715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7D71-5BAE-45A5-BD8D-4F7AE282E7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3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532560" cy="51814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5410080" y="152280"/>
            <a:ext cx="18288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05E3-B0F9-4771-BA0B-E6F2777ED7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457200" y="1349280"/>
            <a:ext cx="5029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 few minutes to look each other’s fold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foldables help students with learning disa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257800" y="68580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2895480" y="4800600"/>
            <a:ext cx="5943600" cy="38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ttp://mathnmind.com/PDF%20Files/Pre-Algebra/dzf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1523880" y="518148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speakmath.wordpress.com/2012/03/07/all-about-slope-foldable/#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Output Difficult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175D-6F7C-4D9B-A28E-9EB5623696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2971800" y="1371600"/>
            <a:ext cx="5861160" cy="2666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152280" y="2666880"/>
            <a:ext cx="2793960" cy="24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666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Output Difficult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4452-10CE-4D8C-A637-C7345295D3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2971800" y="1371600"/>
            <a:ext cx="5861160" cy="2666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304920" y="274320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sual Difficult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BDD8-584E-493D-B500-411978A323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914400"/>
            <a:ext cx="75182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mall Group 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3520" y="11426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80000"/>
          </a:bodyPr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the students with learning disabilities in your school (i.e. in which course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of the ways your math department/school/Board currently supports students with learning disabilities that you think are eff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4223-F6BF-4EFE-AE81-0CD2907195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.A.T. City Workshop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AFB7-951D-4464-A19F-BDE46B067B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4172040" cy="2666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4724280" y="2514600"/>
            <a:ext cx="4300560" cy="3048120"/>
          </a:xfrm>
          <a:prstGeom prst="rect">
            <a:avLst/>
          </a:prstGeom>
          <a:ln w="0">
            <a:noFill/>
          </a:ln>
        </p:spPr>
      </p:pic>
      <p:sp>
        <p:nvSpPr>
          <p:cNvPr id="73" name="TextBox 6"/>
          <p:cNvSpPr/>
          <p:nvPr/>
        </p:nvSpPr>
        <p:spPr>
          <a:xfrm>
            <a:off x="304920" y="419112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these situations relate to your math cla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mall Group 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09120" y="13716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a specific student you have encountered who has a learning disability and finds learning particularly challenging.  Which of the 5 cognitive processes is low for this student?  How did that manifest itself in your class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E88D-5B74-4F61-A66A-6716FC1FA8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6632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IPS Less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18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91000"/>
          </a:bodyPr>
          <a:p>
            <a:pPr marL="348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 TIPS lesson from the samples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8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lesson to familiarize yourself with the content and ta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8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it again with the 5 cognitive processes in mind and suggest modifications to better meet needs of students with learning disabi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8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18BA-049F-4C0D-BAE0-1399121A2F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Karen</cp:lastModifiedBy>
  <dcterms:modified xsi:type="dcterms:W3CDTF">2012-07-19T07:18:35Z</dcterms:modified>
  <cp:revision>37</cp:revision>
  <dc:subject/>
  <dc:title>&lt;Title&gt;</dc:title>
</cp:coreProperties>
</file>